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2BE7-2C8E-443B-8EFF-1DE43BA7A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177F-83E4-4AFA-AD0A-D5EC8478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8603-DAF8-432E-97CE-5CD4C31E4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9532-4457-40EA-BE9E-7F4A03BAC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6DAF-E265-42FC-8A00-67534A98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A982-D22F-4840-B38F-5947CDEB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0B67-81CC-4D4E-AE93-8845D3AF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A0E6-796E-47A2-A061-2618B8D6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5C39-3386-4044-BC0C-BC18D700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9D74-C354-4CED-B530-5CC7CFBF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DD27-165B-4ECC-8460-43CD2CC2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F81C-583B-44E8-96BD-8A63CB1E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A340-E039-4185-B509-A6095010F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oney &amp; in-kind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ained nur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liable drug su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ording &amp; Reporting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6T11:07:56Z</dcterms:created>
  <dc:creator>Charlotte Colvin</dc:creator>
  <dc:description/>
  <dc:language>en-US</dc:language>
  <cp:lastModifiedBy>Charlotte Colvin</cp:lastModifiedBy>
  <dcterms:modified xsi:type="dcterms:W3CDTF">2005-09-19T18:48:36Z</dcterms:modified>
  <cp:revision>3</cp:revision>
  <dc:subject/>
  <dc:title>MONEY</dc:title>
</cp:coreProperties>
</file>